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B658-4DCD-4A71-A373-027EB2407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8A15-B64A-4D46-98FE-33A84065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7214-28A1-4AF9-ACB8-FE27A2565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8894-7C1D-4800-B8CA-DBDD3D047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8777-14C0-471F-80BB-42EBA84E3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FF15-84BE-4EED-8B8F-22890B03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B606-33EC-48F8-B3FE-D952EE70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D640-33C3-49C1-8034-975F07FD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4348-3863-4B60-86F2-650542E1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C48D-B275-4DE4-99DD-06250222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8303-C7B4-45EB-AC13-86C7008A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3D57-E73D-43C4-A609-806F51FA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CF0A-6F45-47F4-BA8E-BD3B5BC8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1A7F-696F-4DFA-9D95-E5EAD64F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4ED7-5315-4695-9BFD-8F84495C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7200-073D-4779-9725-AA1F4091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EE3B-10C5-4622-BFB5-9D98BBCAD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55BF-5ABA-4B22-8F3B-44293F9B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53A8-723D-4832-AB29-194B7060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BA94-93BB-4FE3-82A6-759FB35B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6899-0ED3-4A58-9993-A6A03B1B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BDB9-F092-4C41-839B-2A7A01B3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8F71-8452-424E-A349-C31857CF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C4C3-9FD2-4487-8A3C-6F77483B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BC6CA37-BA08-4A0A-9128-340A410821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679A85-D19E-409F-8425-576A9048B4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-180360" y="1413000"/>
            <a:ext cx="9576720" cy="6000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аткосрочный проек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«Тренируем пальчики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звиваем  реч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Для детей младшего дошкольного возраста 2-3 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ставитель: Крушниц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талья Сергее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дрес: 623530, Свердловская область, г. Богданович, ул. Октябрьская, д.3. Тел.: 8 (343 76)5-68-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021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3640" cy="1224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ниципальное автономное дошкольное учреждение Детский сад №45 комбинированного вида «Карамелька»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ГО Богданович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18452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азноцветные бусы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6130440" cy="4352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Users\наталья\Desktop\Новая папка\c4e5fd62-2878-4269-9967-4ab0c2c18bde.jpg"/>
          <p:cNvPicPr/>
          <p:nvPr/>
        </p:nvPicPr>
        <p:blipFill>
          <a:blip r:embed="rId1"/>
          <a:stretch/>
        </p:blipFill>
        <p:spPr>
          <a:xfrm>
            <a:off x="467640" y="1495800"/>
            <a:ext cx="3960000" cy="5280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Users\наталья\Desktop\Новая папка\04378dc1-d515-42c7-b694-145b8d929139.jpg"/>
          <p:cNvPicPr/>
          <p:nvPr/>
        </p:nvPicPr>
        <p:blipFill>
          <a:blip r:embed="rId2"/>
          <a:stretch/>
        </p:blipFill>
        <p:spPr>
          <a:xfrm>
            <a:off x="4999320" y="1539360"/>
            <a:ext cx="3927600" cy="523656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68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68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330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гры с прищепками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C:\Users\наталья\Desktop\Новая папка\4a98126a-c352-4bb0-ad5f-0b41955b12dc.jpg"/>
          <p:cNvPicPr/>
          <p:nvPr/>
        </p:nvPicPr>
        <p:blipFill>
          <a:blip r:embed="rId1"/>
          <a:stretch/>
        </p:blipFill>
        <p:spPr>
          <a:xfrm>
            <a:off x="395640" y="1628640"/>
            <a:ext cx="3816000" cy="5088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наталья\Desktop\Новая папка\59c97c99-b935-425f-ae4e-1dea31938afe.jpg"/>
          <p:cNvPicPr/>
          <p:nvPr/>
        </p:nvPicPr>
        <p:blipFill>
          <a:blip r:embed="rId2"/>
          <a:stretch/>
        </p:blipFill>
        <p:spPr>
          <a:xfrm>
            <a:off x="4716000" y="1628640"/>
            <a:ext cx="3816000" cy="508824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768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" dur="768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4" dur="76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6" dur="76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350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гры с прищепками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Users\наталья\Desktop\Новая папка\b3187a0c-2f5c-4d28-a48c-bf3ba47ecdae.jpg"/>
          <p:cNvPicPr/>
          <p:nvPr/>
        </p:nvPicPr>
        <p:blipFill>
          <a:blip r:embed="rId1"/>
          <a:stretch/>
        </p:blipFill>
        <p:spPr>
          <a:xfrm>
            <a:off x="323640" y="1556640"/>
            <a:ext cx="3850920" cy="5134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:\Users\наталья\Desktop\Новая папка\734c4952-c529-4438-893b-7130075ef227.jpg"/>
          <p:cNvPicPr/>
          <p:nvPr/>
        </p:nvPicPr>
        <p:blipFill>
          <a:blip r:embed="rId2"/>
          <a:stretch/>
        </p:blipFill>
        <p:spPr>
          <a:xfrm>
            <a:off x="4637880" y="1556640"/>
            <a:ext cx="3850920" cy="513468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2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4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6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240" cy="100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гры с предметами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C:\Users\наталья\Desktop\Новая папка\df735aca-dd95-459e-89d7-4ed678974210.jpg"/>
          <p:cNvPicPr/>
          <p:nvPr/>
        </p:nvPicPr>
        <p:blipFill>
          <a:blip r:embed="rId1"/>
          <a:stretch/>
        </p:blipFill>
        <p:spPr>
          <a:xfrm>
            <a:off x="467640" y="1528200"/>
            <a:ext cx="3816000" cy="5088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наталья\Desktop\Новая папка\25cc0c54-6b5e-4b91-acf4-a5ac6fc880eb.jpg"/>
          <p:cNvPicPr/>
          <p:nvPr/>
        </p:nvPicPr>
        <p:blipFill>
          <a:blip r:embed="rId2"/>
          <a:stretch/>
        </p:blipFill>
        <p:spPr>
          <a:xfrm>
            <a:off x="4808520" y="1528200"/>
            <a:ext cx="3816000" cy="508824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768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5" dur="768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7" dur="76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9" dur="76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383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гры с предметами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Users\наталья\Desktop\Новая папка\61acc9f1-df43-468d-aa8c-50c2967c0535.jpg"/>
          <p:cNvPicPr/>
          <p:nvPr/>
        </p:nvPicPr>
        <p:blipFill>
          <a:blip r:embed="rId1"/>
          <a:stretch/>
        </p:blipFill>
        <p:spPr>
          <a:xfrm>
            <a:off x="395640" y="1610280"/>
            <a:ext cx="3816000" cy="5088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Users\наталья\Desktop\Новая папка\fc1c8114-d040-43d1-ad99-fbee129e0d82.jpg"/>
          <p:cNvPicPr/>
          <p:nvPr/>
        </p:nvPicPr>
        <p:blipFill>
          <a:blip r:embed="rId2"/>
          <a:stretch/>
        </p:blipFill>
        <p:spPr>
          <a:xfrm>
            <a:off x="4716000" y="1623600"/>
            <a:ext cx="3783240" cy="504432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76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5" dur="768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7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9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гры – шнуровки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C:\Users\наталья\Desktop\Новая папка\77119b03-f733-4f14-a1e0-c9ee9667b297.jpg"/>
          <p:cNvPicPr/>
          <p:nvPr/>
        </p:nvPicPr>
        <p:blipFill>
          <a:blip r:embed="rId1"/>
          <a:stretch/>
        </p:blipFill>
        <p:spPr>
          <a:xfrm>
            <a:off x="611640" y="1656720"/>
            <a:ext cx="3741120" cy="4988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Users\наталья\Desktop\Новая папка\253558c3-f657-48b8-a224-6fa4632cc521.jpg"/>
          <p:cNvPicPr/>
          <p:nvPr/>
        </p:nvPicPr>
        <p:blipFill>
          <a:blip r:embed="rId2"/>
          <a:stretch/>
        </p:blipFill>
        <p:spPr>
          <a:xfrm>
            <a:off x="5004000" y="1656720"/>
            <a:ext cx="3741120" cy="498816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68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68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исование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Users\наталья\Desktop\Новая папка\083792e4-3ec4-4d45-b2ba-b5622d5ebd1b.jpg"/>
          <p:cNvPicPr/>
          <p:nvPr/>
        </p:nvPicPr>
        <p:blipFill>
          <a:blip r:embed="rId1"/>
          <a:stretch/>
        </p:blipFill>
        <p:spPr>
          <a:xfrm>
            <a:off x="467640" y="1628640"/>
            <a:ext cx="3780000" cy="5040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C:\Users\наталья\Desktop\н.р. 1 мл.(3)\2edbfdd3-2087-441d-ba93-5a2d34260e35.jpg"/>
          <p:cNvPicPr/>
          <p:nvPr/>
        </p:nvPicPr>
        <p:blipFill>
          <a:blip r:embed="rId2"/>
          <a:stretch/>
        </p:blipFill>
        <p:spPr>
          <a:xfrm>
            <a:off x="4932000" y="1604880"/>
            <a:ext cx="3744000" cy="499212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исование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C:\Users\наталья\Desktop\н.р.1мл.(2)\ba0ba9a7-073e-4799-b49b-2c1b8021ccf8.jpg"/>
          <p:cNvPicPr/>
          <p:nvPr/>
        </p:nvPicPr>
        <p:blipFill>
          <a:blip r:embed="rId1"/>
          <a:stretch/>
        </p:blipFill>
        <p:spPr>
          <a:xfrm>
            <a:off x="395640" y="1655280"/>
            <a:ext cx="3826080" cy="5101560"/>
          </a:xfrm>
          <a:prstGeom prst="rect">
            <a:avLst/>
          </a:prstGeom>
          <a:ln w="9525">
            <a:noFill/>
          </a:ln>
        </p:spPr>
      </p:pic>
      <p:pic>
        <p:nvPicPr>
          <p:cNvPr id="128" name="Picture 3" descr="C:\Users\наталья\Desktop\н.р. 1 мл.(3)\ff91934e-712e-4686-87e0-36f7ccad902d.jpg"/>
          <p:cNvPicPr/>
          <p:nvPr/>
        </p:nvPicPr>
        <p:blipFill>
          <a:blip r:embed="rId2"/>
          <a:stretch/>
        </p:blipFill>
        <p:spPr>
          <a:xfrm>
            <a:off x="4788000" y="1655280"/>
            <a:ext cx="3760200" cy="50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епка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467640" y="1484640"/>
            <a:ext cx="3921480" cy="5229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4969080" y="1519560"/>
            <a:ext cx="3887280" cy="518328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541440" y="189000"/>
            <a:ext cx="8569080" cy="1079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686440" cy="5229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00"/>
          <p:cNvPicPr/>
          <p:nvPr/>
        </p:nvPicPr>
        <p:blipFill>
          <a:blip r:embed="rId1"/>
          <a:stretch/>
        </p:blipFill>
        <p:spPr>
          <a:xfrm>
            <a:off x="1979640" y="1628640"/>
            <a:ext cx="6264000" cy="4968360"/>
          </a:xfrm>
          <a:prstGeom prst="rect">
            <a:avLst/>
          </a:prstGeom>
          <a:ln w="9525">
            <a:noFill/>
          </a:ln>
        </p:spPr>
      </p:pic>
    </p:spTree>
  </p:cSld>
  <p:transition advTm="15000">
    <p:wedg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768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1" dur="768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3" dur="76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5" dur="76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260640"/>
            <a:ext cx="8496360" cy="6120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Автор проекта: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ушницкая Наталья сергеевн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спитатель  первой младшей группы.</a:t>
            </a:r>
            <a:br>
              <a:rPr sz="28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одолжительность проекта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и недели (с 01.04.2021 по 23.04.2021г)</a:t>
            </a:r>
            <a:br>
              <a:rPr sz="28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частники проекта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ти, воспитатели, родители</a:t>
            </a:r>
            <a:br>
              <a:rPr sz="28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озраст детей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 - 3 года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6067440" y="1763640"/>
            <a:ext cx="1628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68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68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68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68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Интеграция областей: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326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циально-коммуникативное развитие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знавательное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удожественно-эстетическое развитие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изическое развитие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чевое развитие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5000"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68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68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68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68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229240" cy="1728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Актуальность проблемы: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496000" cy="5113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же давно ни для кого не секрет, что развитие мелкой моторики (гибкости и точности движений пальцев рук) и тактильной чувствительности - мощный стимул развития у детей восприятия, внимания, памяти, мышления и речи. Дети, у которых лучше развиты мелкие движения рук, имеют более развитый мозг, особенно те его отделы, которые отвечают за речь. Пальцы рук наделены большим количеством рецепторов, посылающих импульсы в центральную нервную систему человека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этому очень важно уже с самого раннего возраста развивать у ребёнка мелкую моторику. Но просто делать упражнения малышу будет скучно – надо обратить их в интересные и полезные игры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лкая моторика рук – это разнообразные движения пальчиками и ладонями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уя разнообразную деятельность детей с предметами, игрушками и природными объектами, важно активизировать у детей сенсорные основы познания, учить малышей использовать разные органы чувств для получения информации об окружающем мире: зрение, слух, обоняние, тактильные ощущения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5000">
    <p:wedg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68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68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240" cy="1483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роекта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640" y="1772640"/>
            <a:ext cx="8229240" cy="4424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е условий для развития мелкой моторики и координации движений пальцев рук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5000"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332640"/>
            <a:ext cx="8229240" cy="1079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и проекта: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3640" y="1556640"/>
            <a:ext cx="8002800" cy="4248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ершенствовать предметно - развивающую среду для развития мелкой моторики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вать мелкую моторику пальцев рук у детей раннего возраста через использование разнообразных форм, методов и приемов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тие способности координированной работы рук со зрительным восприятием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вать эмоциональную отзывчивость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вать коммуникативные навык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5000">
    <p:wedg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208720" cy="100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Этапы проектной деятельности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640" y="1412640"/>
            <a:ext cx="8856720" cy="518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дготовительный этап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бор темы, постановка целей и задач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бор литературного материала по созданию картотеки пальчиковых игр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 словами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бор материала для игр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этап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ссаж рук с помощью подручных предметов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пражнения пальчиковой гимнастики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удожественное творчество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едение д/игр и п/игр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сультации для родителей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ключительный этап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зентация опыта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формление проектной деятельности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ведение итогов, сделать вывод по теме проектной деятельности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5000">
    <p:wedg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1800" cy="100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74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Ожидаемый результат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79280" y="2398680"/>
            <a:ext cx="8784720" cy="3136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тие мелкой моторики у детей младшего дошкольного возра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теллектуальное развитие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полнение предметно-развивающей сре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огащение родительского опыта в воспитании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edg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768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9" dur="768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1" dur="768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3" dur="768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6768720" cy="1079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альчиковые игры со словами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39640" y="5445360"/>
            <a:ext cx="6336360" cy="129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Users\наталья\Desktop\Новая папка\f48312cf-c86a-4c26-9d94-8982b6f303dd.jpg"/>
          <p:cNvPicPr/>
          <p:nvPr/>
        </p:nvPicPr>
        <p:blipFill>
          <a:blip r:embed="rId1"/>
          <a:srcRect l="0" t="19012" r="0" b="0"/>
          <a:stretch/>
        </p:blipFill>
        <p:spPr>
          <a:xfrm>
            <a:off x="373320" y="1556640"/>
            <a:ext cx="8416800" cy="511236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theme/theme1.xml><?xml version="1.0" encoding="utf-8"?>
<a:theme xmlns:a="http://schemas.openxmlformats.org/drawingml/2006/main" name="1_Тема Office">
  <a:themeElements>
    <a:clrScheme name="1_Тема Office 1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ffffff"/>
      </a:accent3>
      <a:accent4>
        <a:srgbClr val="000000"/>
      </a:accent4>
      <a:accent5>
        <a:srgbClr val="b2c1db"/>
      </a:accent5>
      <a:accent6>
        <a:srgbClr val="ae4845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_Тема Office">
  <a:themeElements>
    <a:clrScheme name="1_Тема Office 1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ffffff"/>
      </a:accent3>
      <a:accent4>
        <a:srgbClr val="000000"/>
      </a:accent4>
      <a:accent5>
        <a:srgbClr val="b2c1db"/>
      </a:accent5>
      <a:accent6>
        <a:srgbClr val="ae4845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  <Words>454</Words>
  <Paragraphs>7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9:20:23Z</dcterms:created>
  <dc:creator>Федотова Виктория Александровна</dc:creator>
  <dc:description/>
  <dc:language>en-US</dc:language>
  <cp:lastModifiedBy>ShutNik</cp:lastModifiedBy>
  <cp:lastPrinted>2021-04-25T15:45:20Z</cp:lastPrinted>
  <dcterms:modified xsi:type="dcterms:W3CDTF">2021-04-27T08:48:06Z</dcterms:modified>
  <cp:revision>14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</Properties>
</file>